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842-0824-4605-A9AF-DD8151FF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E36E-0E0A-4C3D-80A4-899454630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CDB-4CB1-45AF-896B-B09A4BA280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AB36-B32A-4812-A5A1-0235AF207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E8C3-6B85-4F46-819F-C9AB70DB83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47A1-78DE-45D3-AFE9-A6EE6C016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D61-D5B0-48FE-BA87-DF891606D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C1E-EB48-43A6-9051-B371EEEEE6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716A-09AB-4307-938D-930D94E49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702-1D67-4A42-9450-11B307743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6A4-1E3D-4651-B87A-F45E26203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3BC-913B-44E6-9C13-872631323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593-1F50-40DF-BC51-EAC3E815B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DD3-789E-4E16-80B5-CB6C7A6F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3E0-52AD-4ED7-8794-831E5036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CAF-1F58-4719-A3D5-1A958AE4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851-20B9-4BA4-BD3D-9618936B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3707-1566-490D-8CC0-FB9EBEB9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D454-A2DF-4BC4-AEB0-488C699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256-7B25-48DB-ACE6-B91C5B43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77EB-F689-4F7C-B5FB-E6E49E19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EAE0-84E4-4746-BA0F-DEAFDF59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669A-0937-4182-9F97-168A648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EDB-BAA3-4087-A147-40DB6255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473-9129-4150-A553-1B2C0EE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63F4-FBDE-4B97-B2AF-85C3345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317-12AF-4621-A66A-9807F9F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83C-01E5-4C26-881C-A37BDC7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3395-A6E1-4620-9D63-F7623270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C70F-7A2E-42DA-B944-7DEC358F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0F9-5F09-476A-A3EA-0F876FFF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7E1-0219-49B6-BCEF-99F20CF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EA6-4A6C-47C2-B5B6-81E0E55C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632-69CE-4E62-B2A7-94F24C90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A9D-3BEA-4585-B4A8-8451B5E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64F-A467-4387-A972-ABEA4C4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EA7-5A0A-42F8-A769-F83D360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61A7-16E1-4FE6-82EC-650CB78825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2F2-4A5A-45FD-8B84-BEBE6FCA8B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visiblechildren.com/" TargetMode="External"/><Relationship Id="rId2" Type="http://schemas.openxmlformats.org/officeDocument/2006/relationships/hyperlink" Target="https://secure.invisiblechildren.com/donate/mediaPlayer_angel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0030723_sierraleonechild"/>
          <p:cNvPicPr/>
          <p:nvPr/>
        </p:nvPicPr>
        <p:blipFill>
          <a:blip r:embed="rId1"/>
          <a:stretch/>
        </p:blipFill>
        <p:spPr>
          <a:xfrm>
            <a:off x="2743200" y="1447920"/>
            <a:ext cx="3639960" cy="48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92" name="WordArt 6"/>
          <p:cNvSpPr txBox="1"/>
          <p:nvPr/>
        </p:nvSpPr>
        <p:spPr>
          <a:xfrm>
            <a:off x="533520" y="763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OULD THIS BE YOU?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533520" y="3049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24" name="Picture 6" descr="IDP%20Camp%20Squalor"/>
          <p:cNvPicPr/>
          <p:nvPr/>
        </p:nvPicPr>
        <p:blipFill>
          <a:blip r:embed="rId1"/>
          <a:srcRect l="0" t="20866" r="0" b="0"/>
          <a:stretch/>
        </p:blipFill>
        <p:spPr>
          <a:xfrm>
            <a:off x="838080" y="1752480"/>
            <a:ext cx="762012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25" name="Text Box 7"/>
          <p:cNvSpPr/>
          <p:nvPr/>
        </p:nvSpPr>
        <p:spPr>
          <a:xfrm>
            <a:off x="914400" y="6400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LIFE LIKE IN THESE CAMPS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09480" y="1600200"/>
            <a:ext cx="807732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LIFE IN IDP CAMPS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CAUSE THERE ARE SO MANY PEOPLE (2 MILLION) IN THESE CAMPS,    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NY PEOPLE STARVE BECAUSE OF LACK OF FOO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CK OF WATER = DEHYDRATION = DEATH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IGHTTIME ATTACKS CONTINUE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.  KIDS ARE STILL KIDNAPPED (MORE THAN 30,000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.  ADULTS ARE STILL KILLED EVEN WITH “PROTECTION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EASE SPREADS BY DIRTY WATER, MOSQUITOS ETC.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2335320" y="3214800"/>
            <a:ext cx="402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www.invisiblechildren.c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WordArt 5"/>
          <p:cNvSpPr txBox="1"/>
          <p:nvPr/>
        </p:nvSpPr>
        <p:spPr>
          <a:xfrm>
            <a:off x="533520" y="45720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WANT TO HELP?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16680" y="4343400"/>
            <a:ext cx="820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s://secure.invisiblechildren.com/donate/mediaPlayer_angels.htm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42900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ebsite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200400" y="38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nation video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3124080" y="4952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ECVHS club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380880" y="5486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C.A.R.E. CLUB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5"/>
          <p:cNvSpPr txBox="1"/>
          <p:nvPr/>
        </p:nvSpPr>
        <p:spPr>
          <a:xfrm>
            <a:off x="533520" y="763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828800" y="9907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NORTHERN UGANDA: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“INVISIBLE CHILDREN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8" descr="CampAerialView500x667"/>
          <p:cNvPicPr/>
          <p:nvPr/>
        </p:nvPicPr>
        <p:blipFill>
          <a:blip r:embed="rId1"/>
          <a:srcRect l="0" t="19600" r="0" b="0"/>
          <a:stretch/>
        </p:blipFill>
        <p:spPr>
          <a:xfrm>
            <a:off x="1066680" y="1905120"/>
            <a:ext cx="7010640" cy="422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96" name="Text Box 9"/>
          <p:cNvSpPr/>
          <p:nvPr/>
        </p:nvSpPr>
        <p:spPr>
          <a:xfrm>
            <a:off x="1600200" y="6324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ERNALLY DISPLACED PEOPLE (IDP) CAM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11" descr="photo_fowler"/>
          <p:cNvPicPr/>
          <p:nvPr/>
        </p:nvPicPr>
        <p:blipFill>
          <a:blip r:embed="rId2"/>
          <a:stretch/>
        </p:blipFill>
        <p:spPr>
          <a:xfrm>
            <a:off x="3790800" y="3429000"/>
            <a:ext cx="4286520" cy="270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533520" y="1523880"/>
            <a:ext cx="807696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QUICK FACTS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 YEARS OF WA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GHTS BETWEEN THE “LRA” LORD’S RESISTANCE ARM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D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UGANDAN GOVERNMEN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R HAS DESTROYED A LOT OF PEOPLES’ LIVES…..SEEN MOSTLY IN THE CHILDRENS’ LIVES….VERY SAD!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KIDS  HAVE GROWN UP ONLY KNOWING A LIFE OF WA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R RESPONSIBILITY MAY BE TO HELP THESE KIDS FIND EDUCATION AND A POSITIVE FUTURE…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33520" y="1676520"/>
            <a:ext cx="815328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WHY WAR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ACED BACK TO A WOMAN NAMED ALICE LAKWENA IN THE 1980’s  (“LAKWENA” = SPIRIT THAT POSESSED HER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HE BELIEVED A “VOICE” SPOKE TO HER AND SAID “OVERTHROW THE UGANDAN GOVERNMENT” (FOR BEING UNJUST TO THE “ACHOLIS”…A TRIBE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ICE IS “KICKED-OUT” OF UGANDA….WHO LEADS NOW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OSEPH KONY, CLAIMED TO BE ALICE’S COUSIN AND CREATES THE LRA OR “LORD’S RESISTANCE ARMY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03" name="Picture 7" descr="kony"/>
          <p:cNvPicPr/>
          <p:nvPr/>
        </p:nvPicPr>
        <p:blipFill>
          <a:blip r:embed="rId1"/>
          <a:stretch/>
        </p:blipFill>
        <p:spPr>
          <a:xfrm>
            <a:off x="568440" y="1600200"/>
            <a:ext cx="3774960" cy="45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04" name="Text Box 8"/>
          <p:cNvSpPr/>
          <p:nvPr/>
        </p:nvSpPr>
        <p:spPr>
          <a:xfrm>
            <a:off x="5335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RA LEADER: JOSEPH KON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572000" y="1523880"/>
            <a:ext cx="40384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WHAT DID THE LRA DO NEXT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T A LOT OF SUPPOR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PERATE FOR ATTENTION = REBELS RESORT TO ABDUCTING CHILDREN….YES CHILDRE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ILDREN ARE ABDUCTED DURING SCHOOL AND FROM HOMES/VILLAGES AT NI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ILDREN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RCE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INTO WA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6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33520" y="1523880"/>
            <a:ext cx="411480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WHY INNOCENT CHILDREN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ILDREN CAN EASILY B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RAINWASHE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AND TOLD WHAT TO DO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G ENOUGH TO CARRY A GU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TS OF THEM =  HUGE ARM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% OF LRA IS LITTLE CHILDREN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9 OUT OF 10 ARE KIDS!!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9" descr="20030723_sierraleonechild"/>
          <p:cNvPicPr/>
          <p:nvPr/>
        </p:nvPicPr>
        <p:blipFill>
          <a:blip r:embed="rId1"/>
          <a:stretch/>
        </p:blipFill>
        <p:spPr>
          <a:xfrm>
            <a:off x="4818240" y="1523880"/>
            <a:ext cx="363996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09" name="Text Box 18"/>
          <p:cNvSpPr/>
          <p:nvPr/>
        </p:nvSpPr>
        <p:spPr>
          <a:xfrm>
            <a:off x="48006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DNAPPED 6 YR. OL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533520" y="167652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6" descr="child%20soldiers%20squad%20Sierra%20Leone"/>
          <p:cNvPicPr/>
          <p:nvPr/>
        </p:nvPicPr>
        <p:blipFill>
          <a:blip r:embed="rId1"/>
          <a:srcRect l="7218" t="0" r="32992" b="0"/>
          <a:stretch/>
        </p:blipFill>
        <p:spPr>
          <a:xfrm>
            <a:off x="533520" y="1766880"/>
            <a:ext cx="3935160" cy="43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13" name="Text Box 7"/>
          <p:cNvSpPr/>
          <p:nvPr/>
        </p:nvSpPr>
        <p:spPr>
          <a:xfrm>
            <a:off x="4724280" y="1523880"/>
            <a:ext cx="40388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LIFE AS A CHILD SOLDIER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 MAN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RCE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TO KILL THEIR OWN FAMILY MEMBERS AND OTHE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MANY ABUSED BOTH PHYSICALLY AND SEXUALLY BY ADULT LRA MEMBE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ST WILL BE KILLED IN WAR OR BY THE LR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SYCHOLOGICAL DAMAGE IS NOT “FIXABLE” FOR MOS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5335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DNAPPED / BRAINWASHE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4"/>
          <p:cNvSpPr txBox="1"/>
          <p:nvPr/>
        </p:nvSpPr>
        <p:spPr>
          <a:xfrm>
            <a:off x="533520" y="763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16" name="Picture 5" descr="intro_child_soldier"/>
          <p:cNvPicPr/>
          <p:nvPr/>
        </p:nvPicPr>
        <p:blipFill>
          <a:blip r:embed="rId1"/>
          <a:srcRect l="16002" t="0" r="23695" b="0"/>
          <a:stretch/>
        </p:blipFill>
        <p:spPr>
          <a:xfrm>
            <a:off x="533520" y="1752480"/>
            <a:ext cx="373356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17" name="Picture 6" descr="childd"/>
          <p:cNvPicPr/>
          <p:nvPr/>
        </p:nvPicPr>
        <p:blipFill>
          <a:blip r:embed="rId2"/>
          <a:srcRect l="0" t="2034" r="14794" b="6362"/>
          <a:stretch/>
        </p:blipFill>
        <p:spPr>
          <a:xfrm>
            <a:off x="4495680" y="1752480"/>
            <a:ext cx="411480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18" name="Text Box 7"/>
          <p:cNvSpPr/>
          <p:nvPr/>
        </p:nvSpPr>
        <p:spPr>
          <a:xfrm>
            <a:off x="609480" y="54864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33520" y="55767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RE OF THE SAME…. NOTICE THE FRIGHTENED LOO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WordArt 4"/>
          <p:cNvSpPr txBox="1"/>
          <p:nvPr/>
        </p:nvSpPr>
        <p:spPr>
          <a:xfrm>
            <a:off x="533520" y="1522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FRICA'S LONGEST WAR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14600" y="13716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1986 – 1996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THE WAR DEGENERAT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609480" y="2514600"/>
            <a:ext cx="807732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CAUSE OF “HORRIFIC TACTICS”, T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NITIA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SUPPORT OF THE LRA HAS FADED…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PEOPLE OF UGANDA DO NOT SUPPORT THE LRA MUCH ANYMORE…..MOSTLY “FEAR THEM”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RA HAS NOW “WAGED TERROR” ON THE CIVILIAN POPULATION TO KEEP ATTENTION ON THEM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96 = GOVERNMENT PUT ALL N. UGANDAN PEOPLE IN CAMPS TO PROTECT THEM….TERROR STILL CONTINUES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8:12:02Z</dcterms:created>
  <dc:creator>Ndavidson</dc:creator>
  <dc:description/>
  <dc:language>en-US</dc:language>
  <cp:lastModifiedBy>Nvasquez</cp:lastModifiedBy>
  <dcterms:modified xsi:type="dcterms:W3CDTF">2011-03-21T19:07:28Z</dcterms:modified>
  <cp:revision>39</cp:revision>
  <dc:subject/>
  <dc:title>Slide 1</dc:title>
</cp:coreProperties>
</file>